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  <p:custShowLst>
    <p:custShow name="Nowy niestandardowy pokaz slajd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C35-165A-482A-802F-877BCD4D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D34-C600-466B-BC62-9180B48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F4A-8220-4811-9B2E-211ED5E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310-A68B-4E9D-BA41-AB2A2364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7E5-AC42-4801-BFE1-35E7096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5AC-321B-4C15-90A4-595F23F9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37B-21B6-4880-AB0F-7DF527B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B96-C6DE-4DBD-BBFE-AA55BB9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B6E-C858-4B47-A0F7-E2C2B0F0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676-6A4F-422D-835A-487297C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840-5603-41EC-8BEA-589146E5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9E3-A43F-4BAA-AE38-69DEBEE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A0AE-BFF2-474F-B934-15941DD40C77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207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łowi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18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wyd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kwiel nadmor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ik krzykli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7964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996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Świętokrzy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łobor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a, jele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957400" y="4019400"/>
            <a:ext cx="3702240" cy="354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atrz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4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92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ejski układ rośli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60720" y="4140360"/>
            <a:ext cx="360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kamil tomaszewski</cp:lastModifiedBy>
  <dcterms:modified xsi:type="dcterms:W3CDTF">2010-05-17T13:03:53Z</dcterms:modified>
  <cp:revision>14</cp:revision>
  <dc:subject/>
  <dc:title/>
</cp:coreProperties>
</file>